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BDF68-6884-44DA-95B0-A5899DA39E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6848E-4D75-4CEB-93ED-4BE9ACBBDE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5353E-B4C3-4D8F-BF43-108E5782FF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016A0-BE42-4D00-97F8-1983B5C793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B878D-8FAB-4006-8527-519EB24EB31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7C4E0-9AEE-4BAC-A343-C08EAC1388B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1DFC4-1EC1-4C4E-AEF8-0AF93C878C9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E01A7-19AD-4236-9D56-B89D257AF77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5C8D8-ECB0-4D4E-893E-451F4D68F9C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27999-ED45-44F7-AD8F-2008E511984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BD4CF-9CCC-4094-845C-070E294969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06BAB-86DE-47CB-94E2-58A946572F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87E6D-A501-44B6-ACAB-08EE3640BA6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4BC88-743E-48D9-8D9A-52E5CDC15DD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E7073-F451-4CAA-A177-48832BC515C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9B64A-CD2D-40B2-89DB-74D744E71ED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796FA-BD91-48E9-AFBD-E4898C8D0A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38AB1-DBAD-49ED-8AC4-1BB330EA2D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8E839-3451-4CBF-92B6-5B05554FDA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102C1-4F2D-4069-A6FA-954DCE5315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07181-FD9D-4D1E-95FA-C59C843A8E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1C296-DFE7-4365-8C46-29E1D91EC6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5CF9F-B142-40F5-9D8F-84688DE4B6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8E725-054A-41C1-86AD-53D874A6C4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1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B86DF-6465-4729-BA2D-3DEFCA624D6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rot="10800000">
            <a:off x="-1440" y="2514600"/>
            <a:ext cx="5461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Word – Lesson 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1219320" y="6521400"/>
            <a:ext cx="761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Microsoft Office 2003 BASICS                               Pasewark &amp; Pasewark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sldNum" idx="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26B9A-D949-41E1-B23C-2FE1213FA1C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62485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Pasewark &amp; Pasewar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6360" y="3392640"/>
            <a:ext cx="81723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Microsoft Office 2003 BASIC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MICROSOFT WORD</a:t>
            </a:r>
            <a:br>
              <a:rPr sz="36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Lesson 3 — Formatting Tex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13ECC-F158-4A0E-9721-DE7D20D05E9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Font Style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nt Sty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set of formatting features that can be applied to text to change its appearanc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st common font styl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Bol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–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Underli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Itali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AC804-E253-4EE8-9D50-DFF55DC77E8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Font Style (cont.)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change the font style, click the buttons on the Formatting toolbar, or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Format, Fo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492360" y="4437000"/>
            <a:ext cx="2305080" cy="857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61C64-BA50-47C7-B8DB-67AF39F55C9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Font Size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4640" cy="39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Font Siz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 – determined by measuring the height of characters in units called points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To change font size,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Format, Fon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 or use the Font Size box on the Formatting toolba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60036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192720" y="4724280"/>
            <a:ext cx="1225800" cy="66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88F07-6F56-4F56-8EE4-7CC7D845125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Font Color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change the color of text, select the text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Format, Font, choose col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also choose a color from formatting toolbar (A button with color bar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00360" y="4276800"/>
            <a:ext cx="421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634B1-74F3-495D-B740-838CD9861E6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Font Color Palette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240000" y="2600280"/>
            <a:ext cx="3008520" cy="3702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EAB6D-2063-49A2-BF67-44F78292FEE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46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Changing Underline Style </a:t>
            </a:r>
            <a:br>
              <a:rPr sz="3600"/>
            </a:b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and Color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Format, Fo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drop-down box for Underline Style &amp; Underline Col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85F30-1535-477E-8D93-A9505037BDB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Underline Styles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016000" y="3249720"/>
            <a:ext cx="5077080" cy="2376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59A92-4D98-46CA-82E8-76CE75315A6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Font Effects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nt effects enhance your text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Click Effects Tab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fter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Format, Fon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n the Font Dialog Box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61E9D-7E9F-4DB8-ADC5-C04AFD31362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Font Effects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268360" y="2362320"/>
            <a:ext cx="4535640" cy="3984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A602A-D6F0-44E4-89EC-BB80FA04657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Highlighting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Highlighting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emphasizes text with color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lect the text ,click the down arrow on the Highlight button on the Formatting toolba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885080" y="4041720"/>
            <a:ext cx="10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824360" y="4365720"/>
            <a:ext cx="1297080" cy="95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04F48-EDB5-4259-9431-D838A191433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pply different fonts and font styles to tex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ange the size and color of tex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 different underline styles and font effec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ghlight tex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8FB3B-C37B-4992-BBF5-A587171EADC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Highlighting Color Palette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166920" y="2744640"/>
            <a:ext cx="3003840" cy="338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AD9F3-3EC4-4FC3-B5F4-F8657B088A9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Copying Format and Style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rmat Paint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copies the format and style of a block of tex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lect the formatted text to be copied. Click the Format Painter button, then select the text that you want to forma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292720" y="4365720"/>
            <a:ext cx="16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840360" y="5265720"/>
            <a:ext cx="1125720" cy="933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4D98D-10AE-4C0F-A3DF-CC47767BAC2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Applying Styles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ty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predefined set of formatting options that have been named and sav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apply a style, select the text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Format, Styles/Formatting.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 click the AA button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n the formatting toolba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can also create and apply styles using the Styles and Formatting task pan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A697A-5B27-4A21-9C09-E0FF84622DB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41680" y="841680"/>
            <a:ext cx="7764840" cy="11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Style Box </a:t>
            </a:r>
            <a:br>
              <a:rPr sz="3600"/>
            </a:b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Styles and Formatting Task Pane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27640" y="2529000"/>
            <a:ext cx="1684440" cy="37083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835280" y="3392640"/>
            <a:ext cx="2720880" cy="63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A13A2-15C4-4862-A973-C9DFE40E3F4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Character Spacing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haracter Spacing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controls the amount of space between each letter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change character spacing,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Format, Fon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lick the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Character Spacing tab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the Font dialog box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C8D00-9F6F-4952-8203-366C519D094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Fonts are designs of type that can change the appearance of a docu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Common font styles are bold, italic, and underlin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Font size is measured in poin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Color of text, style of underline, color of underline, and font effects can be changed in the Font dialog box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95768-09EB-44AE-BC95-B55495F3B47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  <a:ea typeface="Times New Roman"/>
              </a:rPr>
              <a:t>Summary (cont.)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5000"/>
              </a:lnSpc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  <a:ea typeface="Times New Roman"/>
              </a:rPr>
              <a:t>Highlights can be used to emphasize important text.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5000"/>
              </a:lnSpc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  <a:ea typeface="Times New Roman"/>
              </a:rPr>
              <a:t>Format Painter copies the format and style of text.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5000"/>
              </a:lnSpc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  <a:ea typeface="Times New Roman"/>
              </a:rPr>
              <a:t>Styles are a predefined set of formatting options that save time and add consistency to a document.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5000"/>
              </a:lnSpc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  <a:ea typeface="Times New Roman"/>
              </a:rPr>
              <a:t>The space between characters can be adjusted.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3291C-B1DB-4690-9699-AE6A339DEC9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Objectives (cont.)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py formats using the Format Paint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pply and clear styl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ange character spac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FB69A-C8AC-4E51-A82B-0B1D1EA4E24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Terms Used in This Lesson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934560" y="231264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nt siz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nt sty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ghligh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i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y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ggl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F6EF4-AA90-4AC0-84A3-BEAF62C6663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Formatting Text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rmatting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arranging the shape, size, type, and general makeup of a docu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format: 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Format, Font.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can also use the buttons on the formatting toolba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116000" y="5265720"/>
            <a:ext cx="7451640" cy="509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EA565-A128-4C9F-AB18-BF4057D28FF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Font Dialog Box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000240" y="2421000"/>
            <a:ext cx="3635640" cy="3960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840360" y="2529000"/>
            <a:ext cx="1403640" cy="32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nt Typ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nt Siz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pecial Effect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haracter Spac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ext Effect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nderline Styl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3428F-2D6C-4412-ADA8-A09933C5F5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Fonts 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360" y="24382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nts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– designs of typ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943280" y="2960640"/>
            <a:ext cx="4991040" cy="3354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79708-5E19-4514-ABA5-884FAE69B04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Changing the Font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apply a new font,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Format, Fo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also use the Font drop down box(es) on Formatting toolba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0AD8F-8E91-41A2-A14A-21D1793C354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Font Box on Formatting Toolbar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987640" y="2565360"/>
            <a:ext cx="3694320" cy="3611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01EF2-2DEF-483B-913F-915472B22A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9T08:43:46Z</dcterms:created>
  <dc:creator>Pasewark Co.</dc:creator>
  <dc:description/>
  <dc:language>en-US</dc:language>
  <cp:lastModifiedBy>LDSD</cp:lastModifiedBy>
  <dcterms:modified xsi:type="dcterms:W3CDTF">2009-10-06T17:09:27Z</dcterms:modified>
  <cp:revision>90</cp:revision>
  <dc:subject/>
  <dc:title>Microsoft Office XP: Introducto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hecked by">
    <vt:lpwstr>Virginia Ewbank</vt:lpwstr>
  </property>
</Properties>
</file>